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51497"/>
        <c:axId val="83446843"/>
      </c:barChart>
      <c:catAx>
        <c:axId val="763514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46843"/>
        <c:crosses val="autoZero"/>
        <c:auto val="1"/>
        <c:lblAlgn val="ctr"/>
        <c:lblOffset val="100"/>
        <c:noMultiLvlLbl val="0"/>
      </c:catAx>
      <c:valAx>
        <c:axId val="83446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514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1B7-89E4-4AF0-9AF0-EB36F592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33B-34AA-49E4-8AC7-1DF88926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1F3-0324-4E2C-96AB-771E10EB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5C2-971E-4C1E-A1A8-5C328404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FA2-F7E9-43A9-8639-603093C5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7AB-0967-41A5-A1D7-25D2D413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283-FBD6-4EFA-A5D1-880C2A4B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8BE-DF22-4FCA-8E03-E34E84B5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081-D571-45FB-9DCA-CEC72423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D67-4410-408C-8EB4-33A509F1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CC4-9610-4211-872D-FBA2D57C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E9B-2790-478D-8A3C-C0E39D46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2FCE1-8479-433A-B9F9-46A38D14BD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