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62056"/>
        <c:axId val="85668937"/>
      </c:barChart>
      <c:catAx>
        <c:axId val="82662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68937"/>
        <c:crosses val="autoZero"/>
        <c:auto val="1"/>
        <c:lblAlgn val="ctr"/>
        <c:lblOffset val="100"/>
        <c:noMultiLvlLbl val="0"/>
      </c:catAx>
      <c:valAx>
        <c:axId val="85668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62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00B-9B5F-4248-AA09-0C750B08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75D-34FB-4CA1-B311-3B9DF56C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CEF-7D41-482A-92EC-D1ACD064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7C3-12DB-4635-8563-F879502D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DA0-2C15-499D-AE20-98D4EFE3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B56-72EE-4116-894D-D79B1A12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44B-949C-4180-871B-13987137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5BF-5D76-457C-A29A-CF0EDAF2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06D-A05D-49F7-AC08-C6B4894A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3E0-DF7A-42A6-B997-F7FC4ED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4EA-EA87-4FC5-AC42-E11906C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397-51BF-41BB-BB21-95CB36F9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117D6-F434-4963-8163-5B11D82BE1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