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17391"/>
        <c:axId val="9111822"/>
      </c:barChart>
      <c:catAx>
        <c:axId val="51917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1822"/>
        <c:crosses val="autoZero"/>
        <c:auto val="1"/>
        <c:lblAlgn val="ctr"/>
        <c:lblOffset val="100"/>
        <c:noMultiLvlLbl val="0"/>
      </c:catAx>
      <c:valAx>
        <c:axId val="9111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17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6CB-51D8-4E5D-87AD-DDC493FF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D77-8174-4756-9823-0A748B75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4D2-AF9C-43CB-8B04-48AE3605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E83-ECE4-47F9-BBFD-CC1D93C9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189-965E-46BA-950F-27D23185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656-4D2F-44D9-B76D-C60A26A7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E1B-A4AE-4D55-B9B5-7EC2D34B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205-8F50-42A9-A97F-ACA09FB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144-9B47-4D36-A692-A99066C8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DD6-B258-421C-B514-201E260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B2D-2A55-466D-A05B-7143AB00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53E-8BE6-428A-84CC-502038D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2D16D-8BA0-4021-A417-D6C1A16B79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