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56488"/>
        <c:axId val="60556326"/>
      </c:barChart>
      <c:catAx>
        <c:axId val="514564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56326"/>
        <c:crosses val="autoZero"/>
        <c:auto val="1"/>
        <c:lblAlgn val="ctr"/>
        <c:lblOffset val="100"/>
        <c:noMultiLvlLbl val="0"/>
      </c:catAx>
      <c:valAx>
        <c:axId val="60556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564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D86-B9FD-43AB-A3EE-2158D10E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A62-8901-466E-A8B4-7764CCA5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4C7-3C70-4BF9-BABD-A1B78290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82B-9E65-48AB-837E-45E5D880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4F8-CE8D-45BD-B25E-D4EFF0D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CB3-FD17-4408-89F5-9B6813F3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3E6-B81D-4B58-9A62-75B2C0A2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778-A62B-4BA3-970B-F9CC839E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9D1-BABB-4DB3-9AC2-10FF3082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A5A-79D0-4ACE-A52A-294B7EF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D76-6BC5-4DBF-838D-27CE464F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0A6-4D00-4CC0-A2C1-6F34765E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68EED-CCB7-484E-8C78-DC0D2C1D0E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