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63021"/>
        <c:axId val="87490674"/>
      </c:barChart>
      <c:catAx>
        <c:axId val="220630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90674"/>
        <c:crosses val="autoZero"/>
        <c:auto val="1"/>
        <c:lblAlgn val="ctr"/>
        <c:lblOffset val="100"/>
        <c:noMultiLvlLbl val="0"/>
      </c:catAx>
      <c:valAx>
        <c:axId val="874906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630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55D-E8E0-451D-A3C9-64BCF479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A7D9-B1FF-4820-800F-49A08412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1D9F-22CF-42F1-95F0-ED0351D9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4CF0-54E6-4315-8B06-5F8FCCBD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1987-733B-4271-9219-2405C77E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4765-6DBA-46DC-9D31-33122055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68C6-9A1A-42ED-8094-1AB44C7A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BE5-B12C-4BE8-8F96-B34E7B2C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5763-4BE1-4AE0-82EE-5D4EE49B4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F370-119A-40F5-86C9-12ABB53E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F6B-09B8-4FAD-9B68-C81F7DDE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177A-4FF4-462D-80F4-F7E97529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E3633-0D9D-46E7-963E-6DDE8321A3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