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56984-22FA-4FB1-8FA7-E9A579016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F41B8-7351-4C22-A58F-3523EB261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383AB-B122-4C49-BED5-A067A071A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36531-E96D-451E-8435-2357190E4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581BD-0173-4952-A301-09A63D1FC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F217C-ED62-4749-BA7C-255A216F5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13BB4-DCA1-4EBF-BC3B-BBFCF7399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76F68-863C-48B8-9FAE-DD7284FF4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58008-2EF5-4265-ABA9-A32BF7647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9D142-B432-4C0E-A9D6-00E2DBE2B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3FDD1-F17D-435B-B88E-9E78A5FF0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24AF6-02C6-4BB1-ABA4-BC80AEE77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11163-DDD6-46DC-8019-ED4335A991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H="1">
            <a:off x="3962160" y="2819520"/>
            <a:ext cx="685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380880" y="685800"/>
            <a:ext cx="4800240" cy="3429000"/>
            <a:chOff x="380880" y="685800"/>
            <a:chExt cx="4800240" cy="3429000"/>
          </a:xfrm>
        </p:grpSpPr>
        <p:sp>
          <p:nvSpPr>
            <p:cNvPr id="43" name=""/>
            <p:cNvSpPr/>
            <p:nvPr/>
          </p:nvSpPr>
          <p:spPr>
            <a:xfrm>
              <a:off x="380880" y="685800"/>
              <a:ext cx="1072080" cy="516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un Tes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173240" y="1531080"/>
              <a:ext cx="699120" cy="516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DK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lo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012040" y="2188800"/>
              <a:ext cx="1071720" cy="563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mpor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016160" y="2282760"/>
              <a:ext cx="1164960" cy="563400"/>
            </a:xfrm>
            <a:prstGeom prst="flowChartAlternate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atabas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219680" y="1155600"/>
              <a:ext cx="279360" cy="37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872360" y="1906920"/>
              <a:ext cx="372600" cy="32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84120" y="2470680"/>
              <a:ext cx="932040" cy="46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944080" y="2940480"/>
              <a:ext cx="1118520" cy="6105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GI brows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71480" y="3738960"/>
              <a:ext cx="419400" cy="375840"/>
            </a:xfrm>
            <a:prstGeom prst="smileyFace">
              <a:avLst>
                <a:gd name="adj" fmla="val 9282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rot="10758600">
              <a:off x="2992680" y="3549240"/>
              <a:ext cx="652320" cy="469800"/>
            </a:xfrm>
            <a:custGeom>
              <a:avLst/>
              <a:gdLst>
                <a:gd name="textAreaLeft" fmla="*/ 0 w 652320"/>
                <a:gd name="textAreaRight" fmla="*/ 652680 w 652320"/>
                <a:gd name="textAreaTop" fmla="*/ 0 h 469800"/>
                <a:gd name="textAreaBottom" fmla="*/ 470160 h 469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260" stAng="10800000" swAng="5400000"/>
                  <a:lnTo>
                    <a:pt x="15100" y="2900"/>
                  </a:lnTo>
                  <a:lnTo>
                    <a:pt x="15100" y="0"/>
                  </a:lnTo>
                  <a:lnTo>
                    <a:pt x="21600" y="6079"/>
                  </a:lnTo>
                  <a:lnTo>
                    <a:pt x="15100" y="12158"/>
                  </a:lnTo>
                  <a:lnTo>
                    <a:pt x="15100" y="9258"/>
                  </a:lnTo>
                  <a:lnTo>
                    <a:pt x="12427" y="9258"/>
                  </a:lnTo>
                  <a:arcTo wR="6069" hR="2902" stAng="16200000" swAng="-5400000"/>
                  <a:lnTo>
                    <a:pt x="6358" y="216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 flipH="1">
            <a:off x="3428640" y="2819520"/>
            <a:ext cx="12193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99960" y="681120"/>
            <a:ext cx="1071720" cy="515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un Te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192320" y="1527120"/>
            <a:ext cx="698400" cy="515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DK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o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031840" y="2184480"/>
            <a:ext cx="1071720" cy="563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estResul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por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35600" y="2278080"/>
            <a:ext cx="1164960" cy="563400"/>
          </a:xfrm>
          <a:prstGeom prst="flowChartAlternate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238400" y="1150920"/>
            <a:ext cx="280800" cy="376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890720" y="1901880"/>
            <a:ext cx="372960" cy="328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03560" y="2465280"/>
            <a:ext cx="932040" cy="47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8280" y="3200400"/>
            <a:ext cx="1117800" cy="611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GI brows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295280" y="4952880"/>
            <a:ext cx="419400" cy="3762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rot="10758600">
            <a:off x="1751760" y="3809880"/>
            <a:ext cx="1490760" cy="1828800"/>
          </a:xfrm>
          <a:custGeom>
            <a:avLst/>
            <a:gdLst>
              <a:gd name="textAreaLeft" fmla="*/ 0 w 1490760"/>
              <a:gd name="textAreaRight" fmla="*/ 1491120 w 149076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320" y="2590920"/>
            <a:ext cx="990360" cy="5331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pdat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ta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114800" y="1447920"/>
            <a:ext cx="1143000" cy="5331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eck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pec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8320" y="1981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5867280" y="2286000"/>
            <a:ext cx="1143000" cy="533160"/>
            <a:chOff x="5867280" y="2286000"/>
            <a:chExt cx="1143000" cy="533160"/>
          </a:xfrm>
        </p:grpSpPr>
        <p:sp>
          <p:nvSpPr>
            <p:cNvPr id="68" name=""/>
            <p:cNvSpPr/>
            <p:nvPr/>
          </p:nvSpPr>
          <p:spPr>
            <a:xfrm>
              <a:off x="5867280" y="2286000"/>
              <a:ext cx="1143000" cy="533160"/>
            </a:xfrm>
            <a:prstGeom prst="ellipse">
              <a:avLst/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381720" y="2387520"/>
              <a:ext cx="1843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 flipH="1">
            <a:off x="518112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990720" y="3352680"/>
            <a:ext cx="1143000" cy="533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tac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por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828800" y="2742840"/>
            <a:ext cx="22096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581280" y="3962520"/>
            <a:ext cx="106704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por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4114800" y="2819520"/>
            <a:ext cx="53352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3429000" y="4419720"/>
            <a:ext cx="45720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62120" y="3124080"/>
            <a:ext cx="3808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228600" y="152280"/>
            <a:ext cx="3124080" cy="41148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28600" y="4191120"/>
            <a:ext cx="6095880" cy="121896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867280" y="22860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intenan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a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648320" y="3429000"/>
            <a:ext cx="106668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ifi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952880" y="2819520"/>
            <a:ext cx="3812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4571640" y="3886200"/>
            <a:ext cx="68580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2269440" y="574560"/>
            <a:ext cx="124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or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p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066680" y="1828800"/>
            <a:ext cx="120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st of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st ru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581280" y="1752480"/>
            <a:ext cx="108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ngl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st ru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52480" y="2784600"/>
            <a:ext cx="77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e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438280" y="4038480"/>
            <a:ext cx="131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666160" y="4800600"/>
            <a:ext cx="86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a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815120" y="5527800"/>
            <a:ext cx="116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ag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1752480" y="1371600"/>
            <a:ext cx="9907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124080" y="1371600"/>
            <a:ext cx="8384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209680" y="22096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3352320" y="259092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676520" y="2590920"/>
            <a:ext cx="99036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88" idx="3"/>
            <a:endCxn id="86" idx="3"/>
          </p:cNvCxnSpPr>
          <p:nvPr/>
        </p:nvCxnSpPr>
        <p:spPr>
          <a:xfrm flipH="1" flipV="1">
            <a:off x="3426840" y="3195000"/>
            <a:ext cx="99000" cy="1834200"/>
          </a:xfrm>
          <a:prstGeom prst="curvedConnector5">
            <a:avLst>
              <a:gd name="adj1" fmla="val -840145"/>
              <a:gd name="adj2" fmla="val 50000"/>
              <a:gd name="adj3" fmla="val -84014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6" name=""/>
          <p:cNvSpPr/>
          <p:nvPr/>
        </p:nvSpPr>
        <p:spPr>
          <a:xfrm>
            <a:off x="3048120" y="35053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048120" y="44197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2438280" y="5257800"/>
            <a:ext cx="5335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286000" y="3352680"/>
            <a:ext cx="622440" cy="648000"/>
          </a:xfrm>
          <a:custGeom>
            <a:avLst/>
            <a:gdLst/>
            <a:ahLst/>
            <a:rect l="l" t="t" r="r" b="b"/>
            <a:pathLst>
              <a:path w="392" h="408">
                <a:moveTo>
                  <a:pt x="392" y="104"/>
                </a:moveTo>
                <a:cubicBezTo>
                  <a:pt x="384" y="152"/>
                  <a:pt x="376" y="200"/>
                  <a:pt x="344" y="248"/>
                </a:cubicBezTo>
                <a:cubicBezTo>
                  <a:pt x="312" y="296"/>
                  <a:pt x="248" y="376"/>
                  <a:pt x="200" y="392"/>
                </a:cubicBezTo>
                <a:cubicBezTo>
                  <a:pt x="152" y="408"/>
                  <a:pt x="88" y="376"/>
                  <a:pt x="56" y="344"/>
                </a:cubicBezTo>
                <a:cubicBezTo>
                  <a:pt x="24" y="312"/>
                  <a:pt x="0" y="248"/>
                  <a:pt x="8" y="200"/>
                </a:cubicBezTo>
                <a:cubicBezTo>
                  <a:pt x="16" y="152"/>
                  <a:pt x="72" y="88"/>
                  <a:pt x="104" y="56"/>
                </a:cubicBezTo>
                <a:cubicBezTo>
                  <a:pt x="136" y="24"/>
                  <a:pt x="176" y="16"/>
                  <a:pt x="200" y="8"/>
                </a:cubicBezTo>
                <a:cubicBezTo>
                  <a:pt x="224" y="0"/>
                  <a:pt x="236" y="4"/>
                  <a:pt x="248" y="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5T12:40:48Z</dcterms:created>
  <dc:creator>CPT</dc:creator>
  <dc:description/>
  <dc:language>en-US</dc:language>
  <cp:lastModifiedBy>CPT</cp:lastModifiedBy>
  <dcterms:modified xsi:type="dcterms:W3CDTF">2009-08-06T19:13:03Z</dcterms:modified>
  <cp:revision>1</cp:revision>
  <dc:subject/>
  <dc:title>PowerPoint Presentation</dc:title>
</cp:coreProperties>
</file>