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25543"/>
        <c:axId val="28489510"/>
      </c:barChart>
      <c:catAx>
        <c:axId val="45225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89510"/>
        <c:crosses val="autoZero"/>
        <c:auto val="1"/>
        <c:lblAlgn val="ctr"/>
        <c:lblOffset val="100"/>
        <c:noMultiLvlLbl val="0"/>
      </c:catAx>
      <c:valAx>
        <c:axId val="28489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25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934-4BC8-4122-99E5-EA33F28B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95F-3ED1-407C-917A-A8189B5A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D13-EA4F-4870-A1C0-9D9A31F7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CF3-0687-4E53-83B7-FE4334EA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16E-7B5C-42C3-8F74-AC1393E3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65C-9300-4F05-A198-97D8AE23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202-F3C1-4878-A11E-0A8C3372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E7B-D481-455D-B962-37AA8778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678-9969-4260-93B4-D90B4D0B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578-F4A2-48AF-8D6C-F812BF09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55D-723E-4EA2-9F2A-2EBB79E3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CD3-FB9E-4D0B-BEFE-EB56C7E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553BC-B423-4674-93F4-878248DAA5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