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32861"/>
        <c:axId val="11002319"/>
      </c:barChart>
      <c:catAx>
        <c:axId val="86032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02319"/>
        <c:crosses val="autoZero"/>
        <c:auto val="1"/>
        <c:lblAlgn val="ctr"/>
        <c:lblOffset val="100"/>
        <c:noMultiLvlLbl val="0"/>
      </c:catAx>
      <c:valAx>
        <c:axId val="11002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32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E0A-066A-4D84-B39B-0561245D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BAC-0443-4803-B6E3-203CC720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992-CC60-4A3D-B1BE-3FA03787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A4E-62B9-4542-B150-222ED65C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10F-8A6C-47DB-8BE2-3E6CC55F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E49-5617-4A62-B865-B47B216E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118-6476-4641-B61B-9ADC43E6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D76-B0A2-4612-9C0F-0DE136D5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2FF-0407-4FCC-A89C-DFA01AC8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F25-C2AE-4D1D-BC51-1A3502F4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3E7-7E4C-4550-B117-42E63651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223-58B5-4E31-8944-553390BD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B9FB4-0B56-47AA-92E3-EE34F1EAED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